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C899-A2ED-4DD1-A1C1-4A775782B93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D63-E950-43F8-8271-24356438ABD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A22-34B3-42EA-B1AC-5E6E208A7B4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042-4321-4D12-A802-8A7A0FA813A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903-C23B-4B86-B97D-B4E8B7CF4AA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CB4-20AC-4B9D-AE08-A3D59FCA091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A74-5FBA-4DEE-9C59-D97F16A8FF6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B4E-BF03-4F87-B300-A81297D1DD7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151-8B16-47D8-A226-4533EFAAC81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FF74-1764-4DDD-9F5F-6E64C33F857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9AC8-4780-4E23-AEC1-72D5D676436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0404-06A6-4076-8253-B815F22E795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50A-7F61-4C2F-911D-9C2697E4A56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FB54-8CA1-42C7-8185-BA38105E578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8539-F5D4-4D1E-8F2C-9BBF6292B61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5B8-FEE0-4F23-99D1-9046C062FAE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DA29-EC91-430D-9CF6-C36FCFA6E2C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EA47-6878-46DB-B14E-AD8D552E964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48D-C9FB-44A9-B1EC-718D8AED6CB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1F5-236D-4E79-A5D7-EA6ED5B3955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D9E0-CBD8-41BB-98EB-147E0595982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E42A-7FBB-4718-8F49-91645BB181E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2AEA-43F7-4D22-AD29-02AD5283DCD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C84-47E5-4E85-A370-7E8ED7C9BB9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14C0-6FB5-4243-8BC2-DF3F5DEC080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8A1-DA22-42F4-A47F-7364EBD0ED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A405-63C3-4998-9F57-884BC58A590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9B31-FBD7-47BF-AAA7-DCEC99E2099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2B1-6417-465A-9BD3-49B916E07E3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915D-3EB5-4035-9E39-29E0DF7FB58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84F4-15A3-4A36-BD53-7C926DB7B43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7AB9-FAB3-440A-A32F-F295CF205F8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F37-BD0C-4D9B-8B21-1C0D09117CF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211-C04C-4F73-B76E-A6E490A6062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23E2-377C-458E-8814-B8359DB9852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ABDD-6EB1-4CF7-A1C8-3EB3CD8D075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E6BF-6CB1-4515-8C49-CEFE06060FB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A5E-E72F-403F-B224-785B5FA808D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35A-94EF-4E67-AC8E-E85E323D400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AA0-F7C1-41B4-87BE-013D06E118D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DF9C-2306-4926-B17F-7EB71DD673B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2659-9A3D-42DA-BBA6-7E47F5D89EE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D7C7-C6F0-4E9F-9551-DE3CDD9083C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510-B93F-4C83-8933-9D9DF600A30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39B7-9111-410A-9ECD-C99EEBDDB15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BD29-3198-4E3F-AD27-6FC7D4B11DD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5CF-3955-4F18-82BB-DA54A94520F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EB65-95C9-43D9-97B2-8EB3A057CE8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114-F84E-4CD5-8EAE-37094E7B1CC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61E-D060-4D20-8F14-EF1BBB350C2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1985-09B1-4CF4-B1EF-3C96DB25593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A9A-D41D-4839-AF91-19DB52494EE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EE1E-96D3-46A9-9DA3-6BF7332CDEC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1E9-17DF-4DD3-8CE4-244FB10A067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44EE-B7B5-489B-99FC-68B957F3150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13E3-81F9-4457-AF00-2E5647B8463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C59F-B692-4910-8FB0-D79AE294EEF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914D-0BB3-43BD-A538-7B38240040D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8E3-8C25-4198-A958-68C5BD0CB66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391-DAF6-4356-AEB3-B8A53BA323A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0F8-CEA8-41D1-A0F6-1D591E1317C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9530-FE53-460B-8EEB-229426850BC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A7E-FC1A-4F4E-8269-55C6DF80378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FE5-F2EE-4B29-B053-3DB68E1CB80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91B4-FC46-4584-A7BF-38F780A265C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D97-ED8D-4EF0-AEA2-EEB134E6CDD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0728-D6B6-45EE-A6F7-55EEFBAAAC2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4226-519F-4C4E-8757-5B928C48DC7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CF44-7864-481E-A355-93CD950ED5A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C09-50D5-447D-A1E5-BAB7626C406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48BB-A3EC-4F01-B3B0-EF36DD51CA1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BD16-B287-4CDF-9241-8BC6899F974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B274-4C35-45FF-A163-4A048478218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575D-7A62-443E-87A1-51D4D0550B8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A38-F89C-462A-8F18-54545B53600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1461-1F06-463B-9F49-444D99919A8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9CE1-ECAA-43BF-8D15-D8D66514661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62D6-D637-46E4-B076-128F8921120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85C-052D-4CDD-BC38-B07131CAEC9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8D3-0AE3-43F9-93C8-CB36384CD0F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7EBE-05A1-4DFC-853F-D5DBCAFB4F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163-1863-4A81-AB1F-10A3A3D1FD6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3DA4-605D-48DF-83B9-A6F8A4C9CC2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3015-722B-42B6-B97F-6FBDAE4762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D075-5861-4303-830A-0682B66C7D1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4F2-F860-4A85-AA1B-0BABEE3FDEE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B77-1F9D-441F-915C-95F7E801F6E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4B69-7BC2-4931-90C5-AC3DBEE66FA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5486-CB1D-4495-8F35-5DFD5C354D5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DF37-BC8C-4CCB-8C46-AD963C09A26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D844-7956-45AE-9552-7EF9F8A9D9E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4273-F459-4528-8A64-92BEC627772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EBE-E432-489E-8F40-89DC66CD07D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84D-1A90-4BCB-99F4-B21A21A3D06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02A3-3E34-4195-B361-75C72C52040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94B-B73A-4825-9693-57602165E27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DE2-ADC5-40C5-BC85-2623166EBF6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107-A9B1-4AE4-B470-85C6B24B1EA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014D-8563-4FB3-84F7-67A5A8078A4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5FE-7A25-446B-888A-C0B8337AD07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EDE5-D7DB-49AB-81BE-5D17FB03735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D05-4A9D-4B56-BB0D-3A29116F121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417-8AEB-4201-9564-AC43BCDE506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A77-2541-43EB-A31C-22B6A93989A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2E84-EDC5-4444-B52F-FAC1741710F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D3C-7119-45EE-943A-2B874C679C2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2A13-E1E0-4D47-A65A-CDD3963C046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E12-51BB-4698-9A90-BD7F9EB7E1D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A42-0F51-4F2B-BDA1-A7C9E7B61E6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D14-F953-4EE1-8E5B-E833684DAB3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7F7-B875-491E-84AD-541CC24D5FD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B89A-230D-4839-BB17-FA32D4FF0EB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5BA-61B5-49F1-9C8D-65792D1563D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06A-AFDA-4DEF-9A93-CE6316FE9E0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1486-9068-4C03-879D-AD0C7EBA534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6AAD-E8A2-43D4-A8BF-93DF1F6032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8937-8F8F-456A-9540-EDBCA87129C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1E34-D8B1-446A-9525-190D0F40B0C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5E70-A603-40E8-A647-4F712C954CD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DD9E-2211-4FAF-9E40-4EBE552D86F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B5B5-FD03-4364-AA82-630E22E8FFC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4BE-2775-462F-8CCD-6B833CC2994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A32A-7A93-46DA-B0B8-23FDE0B624E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50F-74DE-41DA-A64D-4CA974DF8DF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F4A-56D5-496D-812A-7CE80EE463A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8E12-A434-4268-89E0-431222BE275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909-0D6E-4883-B254-C2D732F029E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650A-6ACF-47D0-A3C7-AD0CF69A4F8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313-9BBB-418A-99FF-A525BD0396D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99F1-67D8-4A66-A6D7-9A30DD6C167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8617-64FF-4ACA-B1C3-BC7897546E5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7D91-637E-4906-BA61-60E7E3268DC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672-D136-4BC6-9B81-269ADF70390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CD43-D8FB-4178-805D-1DA60AFB57D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CAB0-BFA5-4E33-826E-827609330C3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298-5CE7-47B6-B6CD-FEC5A135D54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3CAF-7EE4-42C5-9426-4B9F71989CD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2AC-7DD1-4731-A738-D8A3D822B5A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C39B-F9AB-440D-B485-E409E01457A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2BD8-9729-4CD1-BE68-7FEF3CDD7F6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D3B0-E188-4F8A-88BF-5D69F063E3B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387-6809-47DB-A773-383CE1F002A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341-A4FC-4AA4-9F38-0A79B1ED57A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FDB0-B50C-4923-816D-71415D865EC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3CE-1345-47C2-A69E-D8368D6D6B2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B178-AF14-41E9-A49A-02C6051D4EC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F546-06F7-4100-8571-D78192160C5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EB8-CC64-42E2-8A17-53E5D8E847D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6A7B-F3E5-49EF-B12B-E45F02695AD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80D0-957C-4A01-BC50-1A0737B90A3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284F-2080-43D0-8B7F-79CDC884149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A33-8A43-441C-85A6-240A6C9DE70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8C54-FE9C-4226-B0A7-D4921475BA8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C502-2A1D-4C7A-B021-2F8033AEED8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0AF-AA10-4D2C-A8E7-4578EDB51CA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27DF-2E93-4D4A-8942-03250D2A0C5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7E2F-CE32-4962-B292-4FE951E6EF4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023-8BA3-4203-BA3F-3C238C8FACD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09E-476C-4EE0-847F-ACAAEF86BCB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692D-B821-4010-B4E6-770908433EB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06B-87D1-4DF2-8AF2-8E3E8001A55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29E-9F60-49D5-9B3C-882E04C531F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C42-D456-42D9-8E88-42B4A29BAF5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45A7-DDCE-476B-90A6-D8CBD310F7C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808-B187-4D2E-A69D-B620D5DE858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AE30-B671-4837-BB51-DDB30F550C7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8279-3048-499A-B4B3-BEEC3D4348D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50FB-190D-46EB-B840-AA9459A5F13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4FC-99C9-4885-A746-5168F4D1B63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B905-0C4C-472F-A940-4B76809B1C3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B7D-F731-4C40-9FED-7CD9DBEC5B9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5F7F-17D5-4E21-A08F-6C58C506CF7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362-B387-4B46-BC02-F706518F7BC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8368-C807-409B-931B-996560B00CC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A42-1814-4461-86CF-17477A92D35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6B18-8C56-4EEE-9466-96857C2AA39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907-C80E-44DA-8EDB-C84EF422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DAF-9CAF-4693-BCE3-4888C93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606-2972-4A9B-8A82-E3472F20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D2B-85DB-40F8-99D6-2D629032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C5F-778D-4955-9224-E167B908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61F6-7ACF-4C1F-91DB-640FA3E7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CC7A-9A5D-421A-9F1F-9385030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7DF9-CBED-44EF-9C7E-0E098F78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9EDC-B898-47D8-AA94-C333FCCB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57C-D950-4244-8851-B94AC8D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E87-799B-41AB-A494-FC8601B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816-4C22-4A01-A2F5-DBC2D73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1981-A976-4E84-9780-D9742B41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AB38-2B64-42DD-9A11-9E53F64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E1D9-A581-4135-8DF8-93938AC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C5C9-5F91-43DC-A418-5439E608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885E-8F6A-411A-9957-D7C71DF5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F4C-A3DC-415D-8868-9DCB3B1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633-1015-425E-AB26-1052144C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28F-B531-4958-B985-AE05F14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DD5-476B-4DD6-ACC4-DA2A7900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F9A-3DCB-4AFA-80E1-A140EA2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F01-B98B-42BE-BC24-CD57CA5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D8E-99F5-42CB-BAFB-E44502C9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55A-6668-48AD-8C5A-398ACD779D0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266ED51-E562-4CD3-A1BE-F79D57D6621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4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E71-995B-40E3-B098-2CBB108391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 thir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C27-CE7F-43B5-A8CE-B542F7D354F7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19220264-F49D-4AFA-BE10-5B10BE49FDF2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2811-6859-4B24-A299-40A5A6155D1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BE3-A634-47B4-A934-F12D19460D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5DF30-5D23-4A6F-900A-A3287BC46E69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递推方程解与特征根的关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949320"/>
            <a:ext cx="8785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非零复数，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递推方程的解当且仅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特征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89000"/>
            <a:ext cx="7632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递推方程的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0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因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特征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381560"/>
            <a:ext cx="84250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递推方程的解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任意常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这个递推方程的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递推方程的特征根，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…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该递推方程的解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任意常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487-60B9-4750-86B7-936ACDB84C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4E941-5DD1-416C-9B98-923846FC11E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无重根下通解的结构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275480"/>
            <a:ext cx="83534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对常系数线性齐次递推方程的每个解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一组常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立，则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…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该递推方程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通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653640"/>
            <a:ext cx="83534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系数线性齐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不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特征根，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…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该递推方程的通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0EF-574D-4B05-B768-60EDF70F5B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A3AD9-5413-489D-968B-84E0A72891A9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826920" y="1164960"/>
            <a:ext cx="6912000" cy="1090440"/>
            <a:chOff x="826920" y="1164960"/>
            <a:chExt cx="6912000" cy="109044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4643280" y="1523880"/>
                  <a:ext cx="1584360" cy="73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826920" y="1164960"/>
              <a:ext cx="69120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例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Fibonacc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数列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特征根为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26920" y="2276640"/>
            <a:ext cx="4896000" cy="919080"/>
            <a:chOff x="826920" y="2276640"/>
            <a:chExt cx="4896000" cy="919080"/>
          </a:xfrm>
        </p:grpSpPr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298600" y="2276640"/>
                  <a:ext cx="34243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826920" y="242784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通解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15560" y="3213000"/>
            <a:ext cx="6640920" cy="1295280"/>
            <a:chOff x="1015560" y="3213000"/>
            <a:chExt cx="6640920" cy="129528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4152960" y="3213000"/>
                  <a:ext cx="35035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5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5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1015560" y="3537360"/>
              <a:ext cx="30502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代入初值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得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70560" y="4437000"/>
            <a:ext cx="5330160" cy="895320"/>
            <a:chOff x="970560" y="4437000"/>
            <a:chExt cx="5330160" cy="895320"/>
          </a:xfrm>
        </p:grpSpPr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979640" y="4437000"/>
                  <a:ext cx="432108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>
              <a:off x="970560" y="472464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得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27480" y="4564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26760" y="5363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25280" y="5373720"/>
            <a:ext cx="5205600" cy="1001520"/>
            <a:chOff x="1025280" y="5373720"/>
            <a:chExt cx="5205600" cy="100152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765080" y="5373720"/>
                  <a:ext cx="446580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den>
                      </m:f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den>
                      </m:f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1025280" y="5661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957-4E46-4E4D-BF80-74442EBB98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B771E-CF1D-4541-AD4D-49230175B8B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有重根下求解中的问题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43840" y="1268280"/>
            <a:ext cx="4807440" cy="849240"/>
            <a:chOff x="843840" y="1268280"/>
            <a:chExt cx="4807440" cy="84924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1618920" y="1268280"/>
                  <a:ext cx="403236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843840" y="14000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宋体"/>
                </a:rPr>
                <a:t>例</a:t>
              </a:r>
              <a:r>
                <a:rPr b="1" lang="zh-CN" sz="2400" spc="-1" strike="noStrike">
                  <a:solidFill>
                    <a:srgbClr val="8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68360" y="2387520"/>
            <a:ext cx="8208720" cy="3226320"/>
            <a:chOff x="468360" y="2387520"/>
            <a:chExt cx="8208720" cy="3226320"/>
          </a:xfrm>
        </p:grpSpPr>
        <p:sp>
          <p:nvSpPr>
            <p:cNvPr id="180" name=""/>
            <p:cNvSpPr/>
            <p:nvPr/>
          </p:nvSpPr>
          <p:spPr>
            <a:xfrm>
              <a:off x="468360" y="2387520"/>
              <a:ext cx="8208720" cy="32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  特征方程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4 = 0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通解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代入初值得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无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问题：两个解线性相关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2052720" y="3861000"/>
                  <a:ext cx="9363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B62-D83C-4C12-A8BB-C3F3608EBC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71A0A-DB4B-4EA9-958F-95F7F5E793E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有重根下的通解结构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16120" y="2637000"/>
                <a:ext cx="5421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Sup>
                          <m:e/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59680" y="1240560"/>
            <a:ext cx="68418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递推方程的不相等的特征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重数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10600" y="3427920"/>
            <a:ext cx="2956680" cy="1389960"/>
            <a:chOff x="1110600" y="3427920"/>
            <a:chExt cx="2956680" cy="138996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619280" y="3789360"/>
                  <a:ext cx="244800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1110600" y="342792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那么通解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564-838C-49D9-B4F2-EEFEF15D66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E9971-3E9F-4278-813F-4827BD09851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36360" y="1195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解以下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76360" y="1700280"/>
                <a:ext cx="6985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H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H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1202760" y="3715200"/>
            <a:ext cx="7138080" cy="2086920"/>
            <a:chOff x="1202760" y="3715200"/>
            <a:chExt cx="7138080" cy="2086920"/>
          </a:xfrm>
        </p:grpSpPr>
        <p:sp>
          <p:nvSpPr>
            <p:cNvPr id="191" name=""/>
            <p:cNvSpPr/>
            <p:nvPr/>
          </p:nvSpPr>
          <p:spPr>
            <a:xfrm>
              <a:off x="1202760" y="3715200"/>
              <a:ext cx="3431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其中待定常数满足以下方程组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787400" y="4219560"/>
                  <a:ext cx="6553440" cy="15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3" name=""/>
          <p:cNvGrpSpPr/>
          <p:nvPr/>
        </p:nvGrpSpPr>
        <p:grpSpPr>
          <a:xfrm>
            <a:off x="952200" y="5734080"/>
            <a:ext cx="5778720" cy="755280"/>
            <a:chOff x="952200" y="5734080"/>
            <a:chExt cx="5778720" cy="755280"/>
          </a:xfrm>
        </p:grpSpPr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059280" y="5734080"/>
                  <a:ext cx="367164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952200" y="5877360"/>
              <a:ext cx="16070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原方程的解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615840" y="39981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8520" y="2707200"/>
            <a:ext cx="87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  特征方程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0 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特征根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24040" y="3141720"/>
            <a:ext cx="6330960" cy="511200"/>
            <a:chOff x="824040" y="3141720"/>
            <a:chExt cx="6330960" cy="51120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422440" y="3155760"/>
                  <a:ext cx="473256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n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824040" y="3141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通解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835280" y="18900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解实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D4A-6263-4D59-8298-4C52A6D014A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36B98-13C0-4B1B-927A-B7A1490C717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spcBef>
                <a:spcPts val="9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的标准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9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解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9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解的求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多项式函数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指数函数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组合形式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常系数线性非齐次递推方程求解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D79-1020-429C-B475-D1602CB7CB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15006-1B9D-4EED-9B5E-A75DDCCDFDC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11280" y="3286080"/>
            <a:ext cx="8137440" cy="3152880"/>
            <a:chOff x="611280" y="3286080"/>
            <a:chExt cx="8137440" cy="315288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187280" y="4211640"/>
                  <a:ext cx="5889960" cy="17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e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−</m:t>
                              </m:r>
                              <m:r>
                                <m:t xml:space="preserve">)</m:t>
                              </m:r>
                              <m:r>
                                <m:t xml:space="preserve">H</m:t>
                              </m:r>
                              <m:r>
                                <m:t xml:space="preserve">∗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∗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∗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bar>
                        </m:e>
                        <m:e>
                          <m:r>
                            <m:t xml:space="preserve">[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H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H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H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611280" y="3286080"/>
              <a:ext cx="81374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证   代入验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下面证明任意解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为某个齐次解与特解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设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为递推方程的解，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7080" y="5918400"/>
              <a:ext cx="701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齐次解，即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一个齐次解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2960" y="1195920"/>
            <a:ext cx="8129520" cy="1864800"/>
            <a:chOff x="642960" y="1195920"/>
            <a:chExt cx="8129520" cy="1864800"/>
          </a:xfrm>
        </p:grpSpPr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684360" y="1644480"/>
                  <a:ext cx="808812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642960" y="1195920"/>
              <a:ext cx="172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定理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13.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84360" y="2076480"/>
              <a:ext cx="6652800" cy="520560"/>
              <a:chOff x="684360" y="2076480"/>
              <a:chExt cx="6652800" cy="52056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684360" y="2098440"/>
                    <a:ext cx="718920" cy="46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4" name=""/>
              <p:cNvSpPr/>
              <p:nvPr/>
            </p:nvSpPr>
            <p:spPr>
              <a:xfrm>
                <a:off x="1787400" y="2076480"/>
                <a:ext cx="554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是对应齐次方程的通解，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*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是一个特解，则</a:t>
                </a:r>
                <a:r>
                  <a:rPr b="1" lang="zh-CN" sz="1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84360" y="2565360"/>
              <a:ext cx="5578920" cy="495360"/>
              <a:chOff x="684360" y="2565360"/>
              <a:chExt cx="5578920" cy="495360"/>
            </a:xfrm>
          </p:grpSpPr>
          <mc:AlternateContent>
            <mc:Choice xmlns:a14="http://schemas.microsoft.com/office/drawing/2010/main" Requires="a14">
              <p:sp>
                <p:nvSpPr>
                  <p:cNvPr id="216" name=""/>
                  <p:cNvSpPr txBox="1"/>
                  <p:nvPr/>
                </p:nvSpPr>
                <p:spPr>
                  <a:xfrm>
                    <a:off x="684360" y="2565360"/>
                    <a:ext cx="295092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7" name=""/>
              <p:cNvSpPr/>
              <p:nvPr/>
            </p:nvSpPr>
            <p:spPr>
              <a:xfrm>
                <a:off x="4380480" y="2565360"/>
                <a:ext cx="188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是递推方程的通解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递推方程的标准型及通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66E-52C1-47A1-A0C3-AE05C361F50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BE3A4-E904-4EB6-8B27-E5EC45B7725B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61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9640" y="2464560"/>
            <a:ext cx="8137440" cy="4128840"/>
            <a:chOff x="539640" y="2464560"/>
            <a:chExt cx="8137440" cy="4128840"/>
          </a:xfrm>
        </p:grpSpPr>
        <p:sp>
          <p:nvSpPr>
            <p:cNvPr id="221" name=""/>
            <p:cNvSpPr/>
            <p:nvPr/>
          </p:nvSpPr>
          <p:spPr>
            <a:xfrm>
              <a:off x="539640" y="2464560"/>
              <a:ext cx="813744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  设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 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代入递推方程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[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)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)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整理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(4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(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620720" y="4149720"/>
                  <a:ext cx="280836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828360" y="5550480"/>
              <a:ext cx="770580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得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原方程的通解为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4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6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55640" y="1916280"/>
            <a:ext cx="705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递推方程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通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36920" y="128916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如果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次多项式，则特解一般也是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次多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特解的形式：多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50E-FD01-4C40-96C5-ADEF0FE7C44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C4471-0769-4AEC-8D19-C1695C6118A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1266480"/>
            <a:ext cx="8388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Hano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2994120"/>
            <a:ext cx="8388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令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初值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–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876-EE60-4572-9F29-EC0930FF338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C7007-A8D5-42F2-B590-C45A906E0F8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的定义及实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的公式解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的其他解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函数及其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数生成函数及其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tal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3943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十三章 递推方程与生成函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05E-7DFA-4395-8FD3-37E5795F34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3E1A5-041C-4E74-B923-D453FC932E2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8440" y="1266840"/>
            <a:ext cx="49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解关于顺序插入排序算法的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403280" y="1700280"/>
                <a:ext cx="3240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-108000" y="2652480"/>
            <a:ext cx="914400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  设特解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代入递推方程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特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入递推方程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)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/2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解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/2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入初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得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/2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实  例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续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5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B67-1FBC-4AA1-9D57-5071DBEB49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BED5-0173-4B11-BA68-84587D89743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特解的形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指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-252360" y="1051200"/>
            <a:ext cx="91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为指数函数 </a:t>
            </a:r>
            <a:r>
              <a:rPr b="1" i="1" lang="zh-CN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zh-CN" sz="2400" spc="-1" strike="noStrike" baseline="30000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，若</a:t>
            </a:r>
            <a:r>
              <a:rPr b="1" i="1" lang="zh-CN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是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重特征根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可以等于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0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，则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解为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Pn</a:t>
            </a:r>
            <a:r>
              <a:rPr b="1" i="1" lang="zh-CN" sz="2400" spc="-1" strike="noStrike" baseline="30000">
                <a:solidFill>
                  <a:srgbClr val="a50021"/>
                </a:solidFill>
                <a:latin typeface="Times New Roman"/>
              </a:rPr>
              <a:t>e</a:t>
            </a:r>
            <a:r>
              <a:rPr b="1" i="1" lang="zh-CN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zh-CN" sz="2400" spc="-1" strike="noStrike" baseline="30000">
                <a:solidFill>
                  <a:srgbClr val="a50021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,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为待定常数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252360" y="2010240"/>
            <a:ext cx="918036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信编码问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解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1800" spc="-1" strike="noStrike">
                <a:solidFill>
                  <a:srgbClr val="ffcf01"/>
                </a:solidFill>
                <a:latin typeface="Arial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初值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(6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8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/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4602240"/>
            <a:ext cx="7272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–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+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=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令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得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1)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0" lang="zh-CN" sz="2400" spc="-1" strike="noStrike">
                <a:solidFill>
                  <a:srgbClr val="ffcf01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解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0" lang="zh-CN" sz="1800" spc="-1" strike="noStrike">
                <a:solidFill>
                  <a:srgbClr val="ffcf01"/>
                </a:solidFill>
                <a:latin typeface="Arial"/>
                <a:ea typeface="华文行楷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F84-5EF0-4543-B74A-D12BC4AB72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ED327-31BD-4D0C-8A6E-2272B95F4FB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元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迭代归纳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实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3.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递推方程的其他解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1D1-1795-4A7F-BE7F-D5A03DA3B9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AC7BF-8142-40E9-AC42-C9A9740CA3A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11840" y="126720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宋体"/>
                <a:ea typeface="Times New Roman"/>
              </a:rPr>
              <a:t>思想：通过换元转化成常系数线性递推方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27080" y="3141720"/>
            <a:ext cx="2104920" cy="577800"/>
            <a:chOff x="1027080" y="3141720"/>
            <a:chExt cx="2104920" cy="57780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908000" y="3141720"/>
                  <a:ext cx="12240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"/>
            <p:cNvSpPr/>
            <p:nvPr/>
          </p:nvSpPr>
          <p:spPr>
            <a:xfrm>
              <a:off x="1027080" y="314172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解  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78200" y="4797360"/>
                <a:ext cx="223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3860640"/>
            <a:ext cx="554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代入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19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835280" y="1844640"/>
            <a:ext cx="3088800" cy="1060560"/>
            <a:chOff x="1835280" y="1844640"/>
            <a:chExt cx="3088800" cy="1060560"/>
          </a:xfrm>
        </p:grpSpPr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1835280" y="1844640"/>
                  <a:ext cx="201600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4165920" y="1863720"/>
              <a:ext cx="75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换元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CC0-39E4-4485-AE8E-27A2FCA80E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D7FA-E69E-46EC-9C4B-757E11D7849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4360" y="2822040"/>
            <a:ext cx="87487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 +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=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解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初值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55640" y="1268280"/>
            <a:ext cx="4968720" cy="1468440"/>
            <a:chOff x="755640" y="1268280"/>
            <a:chExt cx="4968720" cy="1468440"/>
          </a:xfrm>
        </p:grpSpPr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1619280" y="1795320"/>
                  <a:ext cx="410508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2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/2 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 , 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"/>
            <p:cNvSpPr/>
            <p:nvPr/>
          </p:nvSpPr>
          <p:spPr>
            <a:xfrm>
              <a:off x="755640" y="126828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归并排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换元法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: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E2A-B5AC-4C5B-82C0-93A6AC367C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5E91A-73E5-4244-B9F9-63621D3BE4B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迭代归纳法：归并排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619280" y="1413000"/>
                <a:ext cx="3605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 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  </m:t>
                            </m:r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55640" y="14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00000" y="2349360"/>
                <a:ext cx="5256360" cy="384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解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905-7529-4E71-8721-E0A41753CF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BF19F-EAEE-488C-8184-800209AA0A4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迭代归纳法：错位排列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234080"/>
            <a:ext cx="6480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–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692360" y="1989000"/>
                <a:ext cx="40338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826920" y="184464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1480" y="397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74800" y="3008160"/>
                <a:ext cx="614988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269-8B62-4CFC-84C8-393F614AD04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FD4A5-E5DA-46A3-914B-CAFD95BA6594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快速排序算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uicksort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//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和末元素下标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if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     then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rtition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/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划分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.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              Quicksort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             Quicksort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599-BB39-4693-A4FD-2D56F15565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61BEB-2FD6-4A33-90FC-CA5B9626381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划分过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rtition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首元素作为划分标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 while tru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     do  repea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           until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/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从后找的第一个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元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           repeat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            until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&g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从前找的第一个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的元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            if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  /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搜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的范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                the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 /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换，回到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          else retur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j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循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1BC-A8EF-473B-B711-3EF10E21A8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ED903-69C4-448B-8C12-CAE4B28AB4F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1042560"/>
            <a:ext cx="7488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0     8    13    64    86    16     7    10     88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25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j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2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0     8    13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6    16     7  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1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88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2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0     8    13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16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 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4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                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幼圆"/>
              </a:rPr>
              <a:t>27</a:t>
            </a:r>
            <a:r>
              <a:rPr b="1" lang="en-US" sz="2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2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0     8    13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1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4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      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16     25     0     8    13    10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7   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27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6    64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8    99   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1FE-3A81-4B90-95AB-27F1DB9E65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57AE5-9A85-4C4F-8C78-01C53DED5DD9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3.1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递推方程的定义及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序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把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些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系起来的等式叫做关于序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递推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给定递推方程和适当的初值就唯一确定了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25720"/>
            <a:ext cx="828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Fibonacci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数列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… ，记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乘计算数列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！，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= 1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452-A34E-409E-8676-24C0797A37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78573-ED7A-43FD-9083-A02B4FA2D6E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平均情况时间复杂度分析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340000" y="1197000"/>
                <a:ext cx="3889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+</m:t>
                              </m:r>
                              <m:r>
                                <m:t xml:space="preserve">O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2781360"/>
                <a:ext cx="763272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  <m:r>
                      <m:t xml:space="preserve"> 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为某个常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717120" y="126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868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差消法化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71640" y="4653000"/>
                <a:ext cx="40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71640" y="5300640"/>
                <a:ext cx="39607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DBA-BCEE-4FEE-BFE6-8BD087DAA81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7F671-AAB0-4BE5-9EC6-E0BD70261D8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迭代求解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11280" y="1341360"/>
                <a:ext cx="7848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68360" y="2565360"/>
                <a:ext cx="259236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492360" y="2781360"/>
            <a:ext cx="5112000" cy="2644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33240" y="5805360"/>
                <a:ext cx="2643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768-0F82-4EEC-B5E9-AE421D7886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35276-A4C2-4112-B4F9-21F83A30D66A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递归树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826920" y="1125360"/>
                <a:ext cx="6409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/2 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 , 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122480" y="1266840"/>
                <a:ext cx="7089480" cy="45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⋰</m:t>
                        </m:r>
                        <m:r>
                          <m:t xml:space="preserve"> </m:t>
                        </m:r>
                        <m:r>
                          <m:t xml:space="preserve">⋱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⋰</m:t>
                        </m:r>
                        <m:r>
                          <m:t xml:space="preserve"> </m:t>
                        </m:r>
                        <m:r>
                          <m:t xml:space="preserve">⋱</m:t>
                        </m:r>
                        <m:r>
                          <m:t xml:space="preserve"> </m:t>
                        </m:r>
                        <m:r>
                          <m:t xml:space="preserve">⋰</m:t>
                        </m:r>
                        <m:r>
                          <m:t xml:space="preserve"> </m:t>
                        </m:r>
                        <m:r>
                          <m:t xml:space="preserve">⋱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611280" y="6021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–(1+2+…+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– (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–1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838-B2C4-4F66-BF81-ADF0A3C8DC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250CE-AEDD-4F89-B7C6-151F2978C74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3.4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生成函数及其应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牛顿二项式系数与牛顿二项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函数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函数的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386-0715-4513-A5C1-E3A90F3EF4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DC1D3-F650-47A6-97EC-375F0FD0A06B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牛顿二项式系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692360" y="1773360"/>
                <a:ext cx="360036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71040" y="1266840"/>
            <a:ext cx="57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实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整数，引入形式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63640" y="4005360"/>
            <a:ext cx="4752720" cy="2663280"/>
            <a:chOff x="1763640" y="4005360"/>
            <a:chExt cx="4752720" cy="2663280"/>
          </a:xfrm>
        </p:grpSpPr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1763640" y="4005360"/>
                  <a:ext cx="3557520" cy="81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763640" y="4816800"/>
                  <a:ext cx="4752720" cy="92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1763640" y="5874480"/>
                  <a:ext cx="1698480" cy="79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6" name=""/>
          <p:cNvSpPr/>
          <p:nvPr/>
        </p:nvSpPr>
        <p:spPr>
          <a:xfrm>
            <a:off x="724320" y="328356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称为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  <a:ea typeface="Times New Roman"/>
              </a:rPr>
              <a:t>牛顿二项式系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3480" y="40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4560" y="405144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1E6-8160-40F4-A1F9-4A50DF9A995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2BAE9-C36B-44C1-AA35-0644D538009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牛顿二项式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1512360" y="1266480"/>
            <a:ext cx="3552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牛顿二项式定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实数，则对一切实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&lt;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2421000"/>
                <a:ext cx="7416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其中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2" name=""/>
          <p:cNvGrpSpPr/>
          <p:nvPr/>
        </p:nvGrpSpPr>
        <p:grpSpPr>
          <a:xfrm>
            <a:off x="1476360" y="4365720"/>
            <a:ext cx="6119640" cy="1871280"/>
            <a:chOff x="1476360" y="4365720"/>
            <a:chExt cx="6119640" cy="1871280"/>
          </a:xfrm>
        </p:grpSpPr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1476360" y="4365720"/>
                  <a:ext cx="44352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α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）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946880" y="5283000"/>
                  <a:ext cx="564912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549720" y="3643920"/>
            <a:ext cx="41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正整数，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BB4-B9F2-4D48-BCB7-C31C6B920F4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D36E6-5A9C-4ACB-85D3-89684DF58955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重要展开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71640" y="1989000"/>
                <a:ext cx="76327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042920" y="3860640"/>
                <a:ext cx="67676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42920" y="4797360"/>
                <a:ext cx="41544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28920" y="1340280"/>
            <a:ext cx="52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牛顿二项式定理就变成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440" y="328356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上面式子中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有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4FB-E3F7-49A2-A143-5E38BA654CF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07A4E-AA04-4361-A16C-9BD423F408B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生成函数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11400"/>
            <a:ext cx="831672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构造形式幂级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生成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50920" y="3355560"/>
            <a:ext cx="8316720" cy="1994760"/>
            <a:chOff x="250920" y="3355560"/>
            <a:chExt cx="8316720" cy="1994760"/>
          </a:xfrm>
        </p:grpSpPr>
        <p:sp>
          <p:nvSpPr>
            <p:cNvPr id="325" name=""/>
            <p:cNvSpPr/>
            <p:nvPr/>
          </p:nvSpPr>
          <p:spPr>
            <a:xfrm>
              <a:off x="250920" y="3355560"/>
              <a:ext cx="831672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例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生成函数为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给定正整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生成函数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1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…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64000" y="4221000"/>
                  <a:ext cx="67176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735-4CDE-4145-8918-36320CDAEFC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B286B-824A-4A18-B5A3-BE6C3CCE91F8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116000" y="3357720"/>
                <a:ext cx="6864480" cy="26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50920" y="1116720"/>
            <a:ext cx="770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4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生成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· 3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258920" y="2349360"/>
                <a:ext cx="58230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7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67464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1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序列求生成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E98-0839-4928-BF8E-BE17813A4340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4730D-AACB-42FD-BE2E-08150B25A7B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由生成函数求序列通项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0" y="229860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763640" y="3259080"/>
                <a:ext cx="504036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835280" y="5084640"/>
                <a:ext cx="3673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50920" y="1162800"/>
            <a:ext cx="7129440" cy="2013480"/>
            <a:chOff x="250920" y="1162800"/>
            <a:chExt cx="7129440" cy="201348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908000" y="1773360"/>
                  <a:ext cx="27338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>
              <a:off x="539640" y="1162800"/>
              <a:ext cx="6840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例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知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生成函数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920" y="2521440"/>
              <a:ext cx="287964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求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440" y="455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4640" y="35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AA8-DB73-4549-9A56-C296A368E28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90E42-4481-4E3A-8866-43D1E49B9B2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126612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柱将这些圆盘移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柱上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把一个圆盘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柱子移到另一个柱子称作一次移动，在移动和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允许使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柱，但不允许大圆盘放到小圆盘的上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所有的圆盘的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计需要多少次移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074840"/>
            <a:ext cx="2736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证明解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3068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盘子的总次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得到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 +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587700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4653000"/>
            <a:ext cx="142920" cy="12240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9080" y="4653000"/>
            <a:ext cx="142920" cy="12240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3440" y="4653000"/>
            <a:ext cx="142920" cy="12240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661000"/>
            <a:ext cx="1297080" cy="21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5445000"/>
            <a:ext cx="1008000" cy="21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5229360"/>
            <a:ext cx="720720" cy="215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递推方程的实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no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68F-83FB-480C-93B0-1F0C8A3D75C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9B926-11D0-47E5-A32B-03C8D4D785F0}" type="datetime8">
              <a:rPr lang="en-US"/>
              <a:t>07/31/26 17:14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1597 L 0.00035 -0.1537 L 0.34358 -0.1537 L 0.34687 0.06181 E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643 L 0.00052 -0.1875 L 0.17048 -0.18518 L 0.17204 0.02801 E">
                                      <p:cBhvr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687 0.0618 L 0.34357 -0.15139 L 0.17014 -0.15139 L 0.17343 0.02407 E">
                                      <p:cBhvr>
                                        <p:cTn id="1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6 L 0.0033 -0.20671 L 0.34496 -0.20231 L 0.34531 -0.00115 E">
                                      <p:cBhvr>
                                        <p:cTn id="1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31 0.04838 L 0.17187 -0.17616 L 0.00347 -0.17616 L -0.00313 0.05949 E">
                                      <p:cBhvr>
                                        <p:cTn id="2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04 0.02547 L 0.16875 -0.15231 L 0.34201 -0.15231 L 0.34548 -0.00116 E">
                                      <p:cBhvr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4722 L 0.00191 -0.1794 L 0.34687 -0.17824 L 0.34687 -0.00278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生成函数的应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解递推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多重集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方程的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数拆分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D68-CAE0-404F-A5BE-D410CFDD8B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90627-DE2F-4BAB-9FC0-68B782673B7A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求解递推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1242000"/>
            <a:ext cx="75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1800" spc="-1" strike="noStrike">
                <a:solidFill>
                  <a:srgbClr val="ffcf01"/>
                </a:solidFill>
                <a:latin typeface="Arial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187280" y="3933720"/>
                <a:ext cx="5185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900000" y="1724400"/>
            <a:ext cx="6551640" cy="2305440"/>
            <a:chOff x="900000" y="1724400"/>
            <a:chExt cx="6551640" cy="2305440"/>
          </a:xfrm>
        </p:grpSpPr>
        <p:sp>
          <p:nvSpPr>
            <p:cNvPr id="349" name=""/>
            <p:cNvSpPr/>
            <p:nvPr/>
          </p:nvSpPr>
          <p:spPr>
            <a:xfrm>
              <a:off x="1042920" y="328464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61840" y="1724400"/>
              <a:ext cx="494244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1" lang="zh-CN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1" lang="zh-CN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- …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              +6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6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00000" y="3321720"/>
              <a:ext cx="59040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07F-27BC-4E66-AC99-D71DB8810CF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F7B32-0906-4A3D-8348-85FE4DC1F2A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810720" y="1195920"/>
            <a:ext cx="4913640" cy="1558440"/>
            <a:chOff x="810720" y="1195920"/>
            <a:chExt cx="4913640" cy="1558440"/>
          </a:xfrm>
        </p:grpSpPr>
        <mc:AlternateContent>
          <mc:Choice xmlns:a14="http://schemas.microsoft.com/office/drawing/2010/main" Requires="a14">
            <p:sp>
              <p:nvSpPr>
                <p:cNvPr id="353" name=""/>
                <p:cNvSpPr txBox="1"/>
                <p:nvPr/>
              </p:nvSpPr>
              <p:spPr>
                <a:xfrm>
                  <a:off x="1981080" y="1197000"/>
                  <a:ext cx="374328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"/>
            <p:cNvSpPr/>
            <p:nvPr/>
          </p:nvSpPr>
          <p:spPr>
            <a:xfrm>
              <a:off x="810720" y="119592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例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1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547640" y="3500280"/>
                <a:ext cx="4473720" cy="231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144800" y="2708280"/>
            <a:ext cx="5948280" cy="957240"/>
            <a:chOff x="1144800" y="2708280"/>
            <a:chExt cx="5948280" cy="95724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4932360" y="2708280"/>
                  <a:ext cx="216072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144800" y="2958120"/>
              <a:ext cx="32803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：设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生成函数为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求解递推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C85-D8A4-441C-B123-A70F6AB0323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D923E-E27E-44B2-986C-BA125CC393C8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949320" y="1197000"/>
                <a:ext cx="7799400" cy="514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求解递推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2F0-5D9B-4CDD-AB9A-01DEC18B4D3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C97DA-D865-45B8-830F-EDEBDB2A613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多重集的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组合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1076400"/>
            <a:ext cx="777708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合数就是不定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非负整数解的个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66960" y="4435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展开式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系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55640" y="3357720"/>
            <a:ext cx="7704000" cy="1003320"/>
            <a:chOff x="755640" y="3357720"/>
            <a:chExt cx="7704000" cy="100332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187280" y="3861000"/>
                  <a:ext cx="72723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755640" y="33577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生成函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9EA-AF92-4EEC-B815-45FF3AE7315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6CD69-D736-422D-B6F9-7F121975620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1263600"/>
            <a:ext cx="8066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{ 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5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生成函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(1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(1 + … +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…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a, a, b, b, b, b, c, c,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a, a, b, b, b, c, c, c,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a, a, b, b, c, c, c, c,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a, b, b, b, b, c, c, c,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a, b, b, b, c, c, c, c,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b, b, b, b, c, c, c, c,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B1B-0CEC-4E9A-8066-E2000FACE1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5AF59-E812-403E-9904-D876C61268D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定方程解的个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900000" y="2276640"/>
                <a:ext cx="7128000" cy="26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116000" y="5157720"/>
                <a:ext cx="194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1227240"/>
            <a:ext cx="8675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基本的不定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…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r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为自然数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4E1-4E2C-4441-A576-5993B3FB90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82C3E-C199-42C7-A63D-3DF988896665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推广的不定方程</a:t>
            </a:r>
            <a:endParaRPr b="1" lang="en-US" sz="21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332000" y="2708280"/>
                <a:ext cx="6272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476360" y="5445000"/>
                <a:ext cx="561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50920" y="1155960"/>
            <a:ext cx="8569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带限制条件的不定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…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3892320"/>
            <a:ext cx="813744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带系数的不定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…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生成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227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成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2AB-9873-488C-9E1E-F8BA74B7C9D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63F0-51D0-437E-B423-D3B7A0474D7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684360" y="4508640"/>
          <a:ext cx="7921440" cy="1150920"/>
        </p:xfrm>
        <a:graphic>
          <a:graphicData uri="http://schemas.openxmlformats.org/drawingml/2006/table">
            <a:tbl>
              <a:tblPr/>
              <a:tblGrid>
                <a:gridCol w="927000"/>
                <a:gridCol w="536400"/>
                <a:gridCol w="540000"/>
                <a:gridCol w="537840"/>
                <a:gridCol w="538200"/>
                <a:gridCol w="538200"/>
                <a:gridCol w="538200"/>
                <a:gridCol w="536760"/>
                <a:gridCol w="538200"/>
                <a:gridCol w="537840"/>
                <a:gridCol w="538200"/>
                <a:gridCol w="538200"/>
                <a:gridCol w="538200"/>
                <a:gridCol w="538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重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112392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砝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砝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砝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问能称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些重量，方案有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2214000"/>
            <a:ext cx="784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2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4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2,  0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1,  0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1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9A0-DAC9-43CD-AFAE-575C602F9C9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BDCD7-0F64-4C56-81E0-919291092175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611280" y="1916280"/>
          <a:ext cx="7703640" cy="4773600"/>
        </p:xfrm>
        <a:graphic>
          <a:graphicData uri="http://schemas.openxmlformats.org/drawingml/2006/table">
            <a:tbl>
              <a:tblPr/>
              <a:tblGrid>
                <a:gridCol w="1856160"/>
                <a:gridCol w="2765880"/>
                <a:gridCol w="30816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有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无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不重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3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3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2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2+1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2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1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1+1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2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2+1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1+1+1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468360" y="11959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拆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定义：将给定正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成若干个正整数之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35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整数拆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CBC-664D-4924-961A-6D61513B2551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460A4-40CD-4E5E-A9C8-97FA1A6FD33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两个排序算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3860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并算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rgesort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/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下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数排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then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/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中点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         Mergesort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         Mergesort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         Merge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/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并排好序数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..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.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981000"/>
            <a:ext cx="799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排序算法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SERTION-SORT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f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2 to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        while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&g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                do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]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;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]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77C-20F6-4B8B-8BE0-0EEB5DDDE8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1715A-1057-4E79-BB1E-405F487B527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无序拆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11280" y="1116000"/>
            <a:ext cx="7991280" cy="2284560"/>
            <a:chOff x="611280" y="1116000"/>
            <a:chExt cx="7991280" cy="228456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1762200" y="2819520"/>
                  <a:ext cx="5040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611280" y="1116000"/>
              <a:ext cx="7991280" cy="19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基本模型：将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无序拆分成正整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+ … +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不允许重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619280" y="4508640"/>
                <a:ext cx="5983200" cy="18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22240" y="400536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允许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64D-65C0-4799-BBF2-149AC3C2AF5C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F055D-323A-4892-B1FF-17B244BD7D6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1194840"/>
            <a:ext cx="820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明任何正整数都可以唯一表示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制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应于将任何正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拆分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不允许重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268360" y="3429000"/>
                <a:ext cx="4824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898560" y="5804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所有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就证明唯一的表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20400" y="306864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成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2CD-3CE5-4D51-B4C4-7CEA3C7F3C4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E9A35-B0A6-41B4-8DCB-24D067E6592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4000" y="1776240"/>
            <a:ext cx="83516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重复无序拆分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数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重复无序拆分成正整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下述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Ferrers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图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角线翻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共轭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Ferrers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 = 6+5+3+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每个数不超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拆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 = 4+4+3+2+2+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拆分数的生成函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55640" y="5276880"/>
                <a:ext cx="3960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384280" y="45507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79640" y="33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序拆分：个数限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292720" y="2707920"/>
            <a:ext cx="3097080" cy="3386520"/>
            <a:chOff x="5292720" y="2707920"/>
            <a:chExt cx="3097080" cy="3386520"/>
          </a:xfrm>
        </p:grpSpPr>
        <p:grpSp>
          <p:nvGrpSpPr>
            <p:cNvPr id="404" name=""/>
            <p:cNvGrpSpPr/>
            <p:nvPr/>
          </p:nvGrpSpPr>
          <p:grpSpPr>
            <a:xfrm>
              <a:off x="5292720" y="2707920"/>
              <a:ext cx="3097080" cy="3386520"/>
              <a:chOff x="5292720" y="2707920"/>
              <a:chExt cx="3097080" cy="338652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5365800" y="2707920"/>
                <a:ext cx="3024000" cy="3313440"/>
                <a:chOff x="5365800" y="2707920"/>
                <a:chExt cx="3024000" cy="33134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832360" y="5553000"/>
                  <a:ext cx="468360" cy="468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5365800" y="2707920"/>
                  <a:ext cx="3024000" cy="3313440"/>
                  <a:chOff x="5365800" y="2707920"/>
                  <a:chExt cx="3024000" cy="33134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5365800" y="6021360"/>
                    <a:ext cx="3024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>
                    <a:off x="5365800" y="2707920"/>
                    <a:ext cx="0" cy="3313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365800" y="555300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365800" y="508464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832360" y="508464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65800" y="465264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832360" y="465264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365800" y="4184640"/>
                    <a:ext cx="468360" cy="46800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832360" y="4184640"/>
                    <a:ext cx="468360" cy="46800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365800" y="371628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832360" y="371628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00720" y="555300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300720" y="508464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300720" y="465264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300720" y="4184640"/>
                    <a:ext cx="468360" cy="46800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00720" y="3716280"/>
                    <a:ext cx="468360" cy="4683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4" name=""/>
              <p:cNvSpPr/>
              <p:nvPr/>
            </p:nvSpPr>
            <p:spPr>
              <a:xfrm>
                <a:off x="5757840" y="595152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92720" y="595152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97440" y="5950080"/>
                <a:ext cx="14472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29440" y="595008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57840" y="548028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92720" y="548028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97440" y="5480280"/>
                <a:ext cx="14472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29440" y="548028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57840" y="50151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292720" y="50151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92720" y="364500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29440" y="50133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57840" y="45831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92720" y="45831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1080" y="41133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92720" y="411336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525640" y="2853000"/>
              <a:ext cx="7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小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1840" y="5445360"/>
              <a:ext cx="7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数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50920" y="11714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重复无序拆分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方法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EE9-63E9-4D56-82E5-C32B7E0B88D3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4DF9A-EB29-4248-B904-99BA878DF9D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692360" y="2492280"/>
                <a:ext cx="29052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835280" y="5148360"/>
                <a:ext cx="2232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50920" y="1159200"/>
            <a:ext cx="813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允许重复地有序拆分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部分的方案数为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满足条件的拆分，则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280" y="3823560"/>
            <a:ext cx="74167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值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方法数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6066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允许重复有序拆分：不允许重复无序拆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全排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70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序拆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1280" y="4651920"/>
            <a:ext cx="741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推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任意重复的有序拆分，方案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ED6-2F75-4D65-8425-F4CB4CC38C62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42A31-A3EE-43B0-A45A-0661348E476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数生成函数的定义与实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数生成函数的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3.5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指数生成函数及其应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06F-C49B-4B51-A0BC-F7235A88936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B0287-E841-43A0-9624-9F609120EB0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547640" y="3357720"/>
                <a:ext cx="558036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684360" y="2674080"/>
            <a:ext cx="7559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给定正整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指数生成函数为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0" y="5253120"/>
            <a:ext cx="8459640" cy="984240"/>
            <a:chOff x="0" y="5253120"/>
            <a:chExt cx="8459640" cy="984240"/>
          </a:xfrm>
        </p:grpSpPr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5794200" y="5253120"/>
                  <a:ext cx="266544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56" name=""/>
            <p:cNvSpPr/>
            <p:nvPr/>
          </p:nvSpPr>
          <p:spPr>
            <a:xfrm>
              <a:off x="0" y="5412600"/>
              <a:ext cx="7812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例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2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指数生成函数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788000" y="1052640"/>
                <a:ext cx="2303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395280" y="1234080"/>
            <a:ext cx="6121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序列，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4360" y="1916280"/>
            <a:ext cx="74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指数生成函数</a:t>
            </a:r>
            <a:r>
              <a:rPr b="1" lang="zh-CN" sz="2400" spc="-1" strike="noStrike">
                <a:solidFill>
                  <a:srgbClr val="ffcf01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0520" y="185760"/>
            <a:ext cx="65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数生成函数的定义与实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321-EA43-4446-B9EE-E7EB23B01F9B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F66A5-8168-4EC0-B369-E6AE8778EAF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应用：多重集排列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1152720"/>
            <a:ext cx="79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多重集，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排列数的指数生成函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258920" y="2492280"/>
                <a:ext cx="626580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F7B-F58E-40D6-9481-DA972BCB57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EB810-5027-472B-A8DE-09CD0248BF7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403280" y="3141720"/>
                <a:ext cx="66960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0" y="42433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325440" y="1266840"/>
            <a:ext cx="82072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的五位数中，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现不超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但不能不出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现不超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现可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现偶数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这样的五位数个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4360" y="52995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4640" y="3222720"/>
            <a:ext cx="363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BB5-1753-424E-BD2A-13F35A7B763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F5207-3B93-46AE-9849-9261C4DB35F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476360" y="2781360"/>
                <a:ext cx="5472000" cy="33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755640" y="2303640"/>
            <a:ext cx="64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    设方案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4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白、兰涂色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格，要求偶数个为白色，问有多少方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3F4-D8D0-4982-8297-4E45539384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B1DB-92AB-4104-AC0C-11314553D7D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3.6 Catal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tal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B08-89BB-4ABE-A8AC-A15F161C21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ECD04-82EC-4718-89A9-75BE761A8C39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递推方程的实例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算法分析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268280"/>
            <a:ext cx="7705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种排序算法在最坏情况下复杂度比较低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插入排序，归并排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排序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并排序，不妨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2)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5E3-DE26-4934-9E8C-6C160A3C10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2E127-2075-480C-9C38-9A3CCE9D66A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36640" y="3591000"/>
            <a:ext cx="7737480" cy="13572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atala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数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755640" y="1341360"/>
            <a:ext cx="73454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凸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形，通过不相交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形内部的对角线把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形划分成三角形，划分方案个数记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称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Catalan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cf0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83880" y="3068640"/>
            <a:ext cx="138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例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5373720"/>
            <a:ext cx="63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5D1-AA23-4482-8E7C-DC12364814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B808A-5F5E-418E-A47E-B1F9C739367E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78560" y="1147680"/>
            <a:ext cx="687096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考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边的多边形，端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边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任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边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另一边，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构成三角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多边形划分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个部分，分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形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403280" y="3789360"/>
                <a:ext cx="27846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403280" y="5373720"/>
                <a:ext cx="1957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735120" y="328464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137040" cy="3284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90800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tal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的递推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77680" y="556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B1A-5169-4DE8-9683-C082BD878545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76CBE-6D8F-4C22-B72B-333C571DEA8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11280" y="339948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：计数堆栈的输出个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332000" y="5013360"/>
                <a:ext cx="36734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746280" y="1197000"/>
            <a:ext cx="70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1, 2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入堆栈后的不同的输出个数</a:t>
            </a:r>
            <a:r>
              <a:rPr b="0" lang="zh-CN" sz="2400" spc="-1" strike="noStrike">
                <a:solidFill>
                  <a:srgbClr val="ffcf0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5640" y="1773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栈到出栈之间作为一个子问题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栈后作为一个子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8720" y="458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子问题规模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子问题规模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cf0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87280" y="2781360"/>
            <a:ext cx="6840720" cy="155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处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数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进栈问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处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2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进栈问题；</a:t>
            </a:r>
            <a:r>
              <a:rPr b="0" lang="zh-CN" sz="2400" spc="-1" strike="noStrike">
                <a:solidFill>
                  <a:srgbClr val="ffcf01"/>
                </a:solidFill>
                <a:latin typeface="Arial"/>
                <a:ea typeface="华文行楷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E79-072F-401D-9787-226A33EB667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F3B18-2EDD-4CE4-98CE-2D0B559D1C5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04880" y="1268280"/>
                <a:ext cx="7686720" cy="484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</m:e>
                              </m:mr>
                            </m:m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由于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求解递推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8E6-E4F4-4F63-BA24-1F9B22137B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6D18-0602-481A-8BFB-9A415FD8148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一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tirli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55640" y="2133720"/>
            <a:ext cx="7561440" cy="720720"/>
            <a:chOff x="755640" y="2133720"/>
            <a:chExt cx="7561440" cy="720720"/>
          </a:xfrm>
        </p:grpSpPr>
        <p:sp>
          <p:nvSpPr>
            <p:cNvPr id="501" name=""/>
            <p:cNvSpPr/>
            <p:nvPr/>
          </p:nvSpPr>
          <p:spPr>
            <a:xfrm>
              <a:off x="755640" y="2206800"/>
              <a:ext cx="756144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将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系数的绝对值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记作      ，称为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第一类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Stirling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4429440" y="2133720"/>
                  <a:ext cx="4316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547640" y="4437000"/>
                <a:ext cx="394812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611280" y="1051200"/>
            <a:ext cx="74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13.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项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…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展开式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+ 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1280" y="29224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755-72CD-47DB-A576-EE1B4749EF60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2E39D-C780-4111-BA21-81F7499BDDE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42840" y="1212840"/>
          <a:ext cx="8694720" cy="53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1212840"/>
                    <a:ext cx="869472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一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的递推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024-5C8A-42B9-9DAB-337F580BE37B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EBD3A-B292-4921-8AA8-FEE21345F58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465120" y="1341360"/>
          <a:ext cx="828684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341360"/>
                    <a:ext cx="828684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1835280" y="2602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的恒等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FD9-9D11-4385-9ADD-F25CF74A2837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993E2-40A8-488F-B56B-B98D29017045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二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球恰好放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相同的盒子里的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称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第二类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记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具体方案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,b,c | d    a,c,d | b    a,b,d | c    b,c,d | a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,b | c,d    a,c | b,d    a,d | b,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643280" y="1916280"/>
                <a:ext cx="468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338120" y="2593800"/>
                <a:ext cx="9414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EDF-0DD4-4847-921C-7D4E92531F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BE351-ED7B-47F1-A533-A42641AB8C16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二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递推方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3743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取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独放一个盒子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单独放一个盒子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050920" y="1197000"/>
                <a:ext cx="266544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132000" y="3500280"/>
                <a:ext cx="863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059280" y="5329080"/>
                <a:ext cx="93636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22" name=""/>
          <p:cNvGrpSpPr/>
          <p:nvPr/>
        </p:nvGrpSpPr>
        <p:grpSpPr>
          <a:xfrm>
            <a:off x="4429080" y="1700280"/>
            <a:ext cx="4223520" cy="4322160"/>
            <a:chOff x="4429080" y="1700280"/>
            <a:chExt cx="4223520" cy="4322160"/>
          </a:xfrm>
        </p:grpSpPr>
        <p:grpSp>
          <p:nvGrpSpPr>
            <p:cNvPr id="523" name=""/>
            <p:cNvGrpSpPr/>
            <p:nvPr/>
          </p:nvGrpSpPr>
          <p:grpSpPr>
            <a:xfrm>
              <a:off x="4429080" y="2610000"/>
              <a:ext cx="3579480" cy="3412440"/>
              <a:chOff x="4429080" y="2610000"/>
              <a:chExt cx="3579480" cy="341244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5368320" y="2610000"/>
                <a:ext cx="2640240" cy="3412440"/>
                <a:chOff x="5368320" y="2610000"/>
                <a:chExt cx="2640240" cy="34124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513120" y="2610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214320" y="3330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03640" y="3330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887800" y="4051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35200" y="4051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627520" y="4843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230160" y="484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808320" y="4843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396920" y="4843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368320" y="5562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880960" y="55627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58040" y="55627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38360" y="55627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481440" y="40258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658640" y="5562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6491880" y="304344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6165000" y="376236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838120" y="448308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577480" y="520236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753960" y="376236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27080" y="448164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166440" y="5202360"/>
                  <a:ext cx="12924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7079400" y="448308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6752520" y="5202360"/>
                  <a:ext cx="12960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7340040" y="5202360"/>
                  <a:ext cx="129240" cy="360360"/>
                </a:xfrm>
                <a:prstGeom prst="line">
                  <a:avLst/>
                </a:prstGeom>
                <a:ln w="1908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2520" y="3043440"/>
                  <a:ext cx="131040" cy="35856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079400" y="3762360"/>
                  <a:ext cx="131040" cy="3589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340400" y="4483080"/>
                  <a:ext cx="130680" cy="3589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6920" y="5202360"/>
                  <a:ext cx="130680" cy="35856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425640" y="3765600"/>
                  <a:ext cx="131040" cy="3589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752520" y="4484880"/>
                  <a:ext cx="131040" cy="35856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165000" y="4483080"/>
                  <a:ext cx="130680" cy="3589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079400" y="5202360"/>
                  <a:ext cx="131040" cy="35856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490440" y="5202360"/>
                  <a:ext cx="130680" cy="35856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903280" y="5202360"/>
                  <a:ext cx="130680" cy="35856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5186520" y="2827440"/>
                <a:ext cx="10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29080" y="261000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86520" y="3546360"/>
                <a:ext cx="71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29080" y="330516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6520" y="4267080"/>
                <a:ext cx="52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429080" y="402588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2400" y="5059440"/>
                <a:ext cx="26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29080" y="481788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29080" y="553716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6917400" y="170028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754320" y="2132280"/>
              <a:ext cx="19584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9000" y="241956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043400" y="2851200"/>
              <a:ext cx="195840" cy="50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35880" y="30672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370280" y="3499200"/>
              <a:ext cx="19584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94000" y="38610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29840" y="4292640"/>
              <a:ext cx="195840" cy="50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28720" y="458028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864560" y="5011920"/>
              <a:ext cx="19584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17120" y="126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EF5-EAC2-4D3F-ACC8-2DE079D32A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708D-F340-476A-BC19-92B97414FB88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二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恒等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611280" y="1052640"/>
                <a:ext cx="2374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7240" y="1349280"/>
                <a:ext cx="210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615960" y="2262240"/>
                <a:ext cx="1882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658800" y="3257640"/>
                <a:ext cx="65422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611280" y="4437000"/>
                <a:ext cx="3240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11280" y="5516640"/>
                <a:ext cx="4103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CE7-A3BA-4860-AEA9-1BE20557508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8CB98-493C-4811-89B1-3C9A4721CA4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8000" y="18900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递推方程的公式解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4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征方程、特征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4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的解与特征根的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4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重根下通解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4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解实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4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重根下通解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4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解实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046-511C-40B1-A782-F67C88C2C8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3AAFC-CB6B-4935-A085-5FE88F57F76A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979640" y="189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恒等式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71120" y="3074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42320" y="2008440"/>
            <a:ext cx="3643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放在一个盒子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剩下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每个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是全落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盒子的方法不符合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7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5640" y="4795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放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，必有一个盒子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余每个盒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两个球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826920" y="1125360"/>
                <a:ext cx="2232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905040" y="3341520"/>
                <a:ext cx="2242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1FD-27FD-4C32-B616-BC07CF2E1FDB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6BEC3-0C0C-4AB8-A7E8-BE68C0D3B12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恒等式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68360" y="1197000"/>
                <a:ext cx="65102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2708280"/>
                <a:ext cx="3240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539640" y="4292640"/>
                <a:ext cx="4103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1761120" y="2206800"/>
            <a:ext cx="57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球恰好放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盒子的方法数（无空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9640" y="3645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含球的盒子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，对应了允许存在空盒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5280" y="5373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多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球放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相同的盒子不存在空盒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球数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41F-DB79-4F56-B4D2-7517B69A3DB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2FAD3-984E-4A5D-8B56-BA7AEA77BCEA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171880" y="16495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71880" y="16495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16495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71880" y="16495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71880" y="16495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放球问题的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solidFill>
            <a:srgbClr val="d6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1990800"/>
            <a:ext cx="1257480" cy="360"/>
          </a:xfrm>
          <a:prstGeom prst="rect">
            <a:avLst/>
          </a:prstGeom>
          <a:solidFill>
            <a:srgbClr val="d6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1990800"/>
            <a:ext cx="1257480" cy="360"/>
          </a:xfrm>
          <a:prstGeom prst="rect">
            <a:avLst/>
          </a:prstGeom>
          <a:solidFill>
            <a:srgbClr val="d6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1990800"/>
            <a:ext cx="1257480" cy="360"/>
          </a:xfrm>
          <a:prstGeom prst="rect">
            <a:avLst/>
          </a:prstGeom>
          <a:solidFill>
            <a:srgbClr val="d6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990800"/>
            <a:ext cx="1257480" cy="360"/>
          </a:xfrm>
          <a:prstGeom prst="rect">
            <a:avLst/>
          </a:prstGeom>
          <a:solidFill>
            <a:srgbClr val="d6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68360" y="1271520"/>
          <a:ext cx="8316720" cy="5110200"/>
        </p:xfrm>
        <a:graphic>
          <a:graphicData uri="http://schemas.openxmlformats.org/drawingml/2006/table">
            <a:tbl>
              <a:tblPr/>
              <a:tblGrid>
                <a:gridCol w="960480"/>
                <a:gridCol w="960480"/>
                <a:gridCol w="1012680"/>
                <a:gridCol w="2116080"/>
                <a:gridCol w="326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球标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盒标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允空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放球方法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应的组合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恰好无序拆分成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序拆分成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部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…+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整数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…+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zh-CN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非负整数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irli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rli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性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irli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性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法法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ef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0" y="486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2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492360" y="3381480"/>
            <a:ext cx="2016360" cy="3000240"/>
            <a:chOff x="3492360" y="3381480"/>
            <a:chExt cx="2016360" cy="300024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3997440" y="3381480"/>
                  <a:ext cx="64764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m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3924360" y="4173480"/>
                  <a:ext cx="8636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3852720" y="4892760"/>
                  <a:ext cx="10080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!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m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3492360" y="5613480"/>
                  <a:ext cx="201636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m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{"/>
                              <m:endChr m:val="}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k</m:t>
                          </m:r>
                          <m:r>
                            <m:t xml:space="preserve">!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79C-E060-4CF4-82DD-DB18AC21BFB6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EDBE6-B121-436D-A22E-9F9710D8427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第十三章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的求解方法：公式法、换元法、迭代归纳法、生成函数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与递归算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函数的应用：计算多重集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、确定不定方程的整数解个数、计算拆分方案数、求解递推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数生成函数的应用：计算多重集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的计数符号：组合数、排列数、多项式系数、错位排列数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tal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、两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计数模型：选取问题、不定方程的解、非降路径、正整数拆分、放球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3CB-5661-47F3-BF5A-85C5B5FCA9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DC914-122E-4986-A1BE-EE7906E6D9F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基本要求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使用递推方程求解计数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使用生成函数或指数生成函数求解计数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tal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、两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的定义、组合意义以及相关的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21B-7A70-477D-87A9-987DB0C13D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6A23E-B55A-4349-A360-870EA8A3FABF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6" name=""/>
          <p:cNvSpPr/>
          <p:nvPr/>
        </p:nvSpPr>
        <p:spPr>
          <a:xfrm>
            <a:off x="395280" y="1145160"/>
            <a:ext cx="820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124000" y="2781360"/>
                <a:ext cx="30718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95640" y="4724280"/>
                <a:ext cx="2663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761760" y="5842800"/>
            <a:ext cx="2389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36360" y="4149720"/>
            <a:ext cx="26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12720" y="2276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已知条件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D22-F1B0-491E-971B-D73E09507255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3969F-A1CA-48C0-8A11-DC49F8E8285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3" name=""/>
          <p:cNvSpPr/>
          <p:nvPr/>
        </p:nvSpPr>
        <p:spPr>
          <a:xfrm>
            <a:off x="589680" y="116100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求解递推方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050920" y="1557360"/>
                <a:ext cx="41864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3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3830400" y="3664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867280" y="2541600"/>
                <a:ext cx="2016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771640" y="3714840"/>
                <a:ext cx="33433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627280" y="4873680"/>
                <a:ext cx="46101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3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699840" y="2785320"/>
            <a:ext cx="4713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换元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入原递推方程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7200" y="35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公式法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9640" y="46274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而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4CF-4867-42B9-8CA0-577B0CD2F2A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44E20-BA49-4E1B-9F21-B99927902B81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3" name=""/>
          <p:cNvSpPr/>
          <p:nvPr/>
        </p:nvSpPr>
        <p:spPr>
          <a:xfrm>
            <a:off x="706320" y="1307160"/>
            <a:ext cx="4785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确定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生成函数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796000" y="1125360"/>
                <a:ext cx="51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826920" y="1844640"/>
                <a:ext cx="55213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826920" y="3774960"/>
                <a:ext cx="7921800" cy="29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A46-2FB4-4B72-AA25-B24426E13AE9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34108-99A6-49E9-8175-D6BB4D634356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971640" y="1125360"/>
                <a:ext cx="3779640" cy="28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971640" y="4365720"/>
                <a:ext cx="552132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41F-B023-41BB-8045-E9C86A50DE60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9934A-49D2-4DD2-8C00-70903DCF55A4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685800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6" name=""/>
          <p:cNvSpPr/>
          <p:nvPr/>
        </p:nvSpPr>
        <p:spPr>
          <a:xfrm>
            <a:off x="596880" y="126720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908000" y="1125360"/>
                <a:ext cx="2684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4810320" y="1234080"/>
            <a:ext cx="3672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生成函数，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826920" y="2060640"/>
                <a:ext cx="5473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763640" y="3068640"/>
                <a:ext cx="221148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+</m:t>
                              </m:r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6320" y="465192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/4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/4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47640" y="5157720"/>
                <a:ext cx="648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947-E070-4423-A786-1A019F8CDC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5479-CB0F-40B4-B30D-CD8E0060E4AB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04960" y="1700280"/>
                <a:ext cx="6454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68360" y="2549520"/>
            <a:ext cx="69134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常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阶常系数线性齐次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初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197000"/>
            <a:ext cx="73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3.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系数线性齐次递推方程的标准形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738440" y="5056200"/>
                <a:ext cx="29336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340000" y="260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系数线性齐次递推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9040" y="4438800"/>
            <a:ext cx="3502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bonacci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列的递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58B-C46B-4AE7-A81C-DB6BE0514F6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C90A-7011-4A92-91D1-3E9E6D4ABD17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826920" y="1197000"/>
                <a:ext cx="4432320" cy="30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n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为奇数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n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，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为偶数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EB7-4EE2-403E-86D5-8B1FCF591AE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65E66-6A7E-4A5D-B725-BF1B2BAA7C7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9" name=""/>
          <p:cNvSpPr/>
          <p:nvPr/>
        </p:nvSpPr>
        <p:spPr>
          <a:xfrm>
            <a:off x="324000" y="1162800"/>
            <a:ext cx="720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求下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阶行列式的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2340000" y="1700280"/>
                <a:ext cx="38084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4446720" y="40996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754280" y="4437000"/>
                <a:ext cx="2530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703440" y="5682240"/>
            <a:ext cx="185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804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0D4-F05B-46E3-A5AF-3BC44BE345A7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8F441-C273-4094-804C-EA64C4EEBE49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平面上已经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直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加入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直线时，它与平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直线交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点将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直线分割成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，每段都增加一个区域，共增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区域，因此得到递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8" name=""/>
          <p:cNvSpPr/>
          <p:nvPr/>
        </p:nvSpPr>
        <p:spPr>
          <a:xfrm>
            <a:off x="395280" y="1197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上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直线，它们两两相交且没有三线交于一点，问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直线把平面分成多少个区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340000" y="3860640"/>
                <a:ext cx="18558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1258920" y="5084640"/>
                <a:ext cx="26528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BA0-9A03-4304-8C81-3BA89453232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C79B6-EC6D-4E72-9293-F79A2FA9F012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经济中，商品价格随需求量增长而上涨，随供给量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而下降，可以简单地用一个线性方程表示这种依赖关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求关系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价格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需求量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涨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减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供给关系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价格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供给量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常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涨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增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价格随需求量能做到即时变化，而商品生产和流通需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，因此供给量随价格的变化需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位时间的延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每个时间的需求量都和供给量相等，考虑一个时间序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,1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设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价格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时间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价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DE2-E51E-4167-B94E-91BFCE011DC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CA877-C84B-43EE-BF06-D03CB334568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3920" y="1162800"/>
            <a:ext cx="71809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第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间的价格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需求量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供给量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2176560" y="1628640"/>
                <a:ext cx="1819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195640" y="3213000"/>
                <a:ext cx="2243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195640" y="3860640"/>
                <a:ext cx="259056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124000" y="4653000"/>
                <a:ext cx="3888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124000" y="5445000"/>
                <a:ext cx="4802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712080" y="3321720"/>
            <a:ext cx="1131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入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476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405-DB60-4AE1-82AB-3940B26F01A2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0F22B-3D0D-4E83-A2F0-ABF1482D848C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68360" y="11955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三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两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五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组成多少个不同的四位数？如果这个四位数是偶数，那么又有多少个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1547640" y="2276640"/>
                <a:ext cx="524052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609120" y="457236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系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2987640" y="4429080"/>
                <a:ext cx="949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457920" y="5347440"/>
            <a:ext cx="173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此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CCD-228D-4645-91CC-414F34B20B9E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B2FD8-8D9D-43E3-A879-3341AFBA2900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编号球恰放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相同盒子且不允许相邻编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盒的方法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定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变换：如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己在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，将盒子拿走，得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球恰放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相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盒且相邻编号不落入同一盒子的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盒子的球有                         将球      放入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在的盒子， 然后拿走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盒子，从而得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恰好放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且至少两个相邻标号球落入同一盒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求方法数等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球恰好放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相同盒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方法数，即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考虑盒子编号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4000" y="1109520"/>
            <a:ext cx="85327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用恰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可能的颜色做旗子，使得每面旗子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带构成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且相邻两彩带的颜色都不相同，证明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旗子数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268360" y="1844640"/>
                <a:ext cx="1041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4284720" y="4349880"/>
                <a:ext cx="1727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6804000" y="4365720"/>
                <a:ext cx="335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7812000" y="4319640"/>
                <a:ext cx="5414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411280" y="6093000"/>
                <a:ext cx="6368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5796000" y="6137280"/>
                <a:ext cx="8301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651-150B-482A-AAC2-B183354241F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08EDA-523C-4DE2-994A-3656DFB83CC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方法二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学归纳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时有                    ，命题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对一切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题为真，考虑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使用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的涂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用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涂色前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，最后一条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数为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用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颜色涂色前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，选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颜色的方式数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色方法数为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由乘法法则得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根据加法法则，总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数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归纳法命题成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894120" y="1557360"/>
                <a:ext cx="1359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!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908000" y="3141720"/>
                <a:ext cx="1727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932360" y="3675240"/>
                <a:ext cx="192420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059280" y="4292640"/>
                <a:ext cx="1184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908000" y="5157720"/>
                <a:ext cx="48960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EC5-5F22-47FE-B8FC-5A06E5A910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608AE-2A34-403A-B727-A0B6F62E7F5B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方法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恰落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同盒子且球编号不相邻方法数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这些方法分成两类：其中第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独占一盒的方法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        ；第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不独占一个盒子的方法数为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第二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r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递推方程初值一样，因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虑盒子编号，于是得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恰好落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，且球的编号不相邻的方法数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31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2268360" y="2565360"/>
                <a:ext cx="27352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6443640" y="3341520"/>
                <a:ext cx="15112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619280" y="5157720"/>
                <a:ext cx="3332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724360" y="5229360"/>
                <a:ext cx="1800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!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7956720" y="1197000"/>
                <a:ext cx="490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900000" y="2060640"/>
                <a:ext cx="576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7043760" y="2065320"/>
                <a:ext cx="69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F99-E49E-4146-B2D5-F8DD2B51FD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0CF78-0182-4B10-BE39-2887B7F06C2D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特征方程与特征根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54240" y="41043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1197000"/>
                <a:ext cx="71294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250920" y="2191320"/>
            <a:ext cx="7993080" cy="3372840"/>
            <a:chOff x="250920" y="2191320"/>
            <a:chExt cx="7993080" cy="3372840"/>
          </a:xfrm>
        </p:grpSpPr>
        <p:sp>
          <p:nvSpPr>
            <p:cNvPr id="144" name=""/>
            <p:cNvSpPr/>
            <p:nvPr/>
          </p:nvSpPr>
          <p:spPr>
            <a:xfrm>
              <a:off x="250920" y="2191320"/>
              <a:ext cx="79930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定义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13.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特征方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CN" sz="2400" spc="-1" strike="noStrike">
                  <a:solidFill>
                    <a:srgbClr val="ffcf01"/>
                  </a:solidFill>
                  <a:latin typeface="Arial"/>
                  <a:ea typeface="华文行楷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特征方程的根称为递推方程的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Times New Roman"/>
                </a:rPr>
                <a:t>特征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实例：</a:t>
              </a: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递推方程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特征方程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= 0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942480" y="4645080"/>
              <a:ext cx="3278520" cy="919080"/>
              <a:chOff x="942480" y="4645080"/>
              <a:chExt cx="3278520" cy="919080"/>
            </a:xfrm>
          </p:grpSpPr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2187720" y="4645080"/>
                    <a:ext cx="2033280" cy="91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7" name=""/>
              <p:cNvSpPr/>
              <p:nvPr/>
            </p:nvSpPr>
            <p:spPr>
              <a:xfrm>
                <a:off x="942480" y="48625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特征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4BE-2DCA-4BEF-9F9C-DDF79D30A7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74941-A519-43FF-952E-F9F0CCD9C6F3}" type="datetime8">
              <a:rPr lang="en-US"/>
              <a:t>07/31/26 17:14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0:52:25Z</dcterms:modified>
  <cp:revision>214</cp:revision>
  <dc:subject>ch1</dc:subject>
  <dc:title>lisan</dc:title>
</cp:coreProperties>
</file>